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1B4-3DC4-41D8-A70F-93FE0EC1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A4B-BEC8-4892-8910-01C456C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F01-6D13-48B9-A858-3CD9078D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37A-AD34-4FB7-BF1A-810FFA00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55AB-4A98-4AEA-A158-08E653B6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FC1A-98EE-463D-ABDA-3DE6E97C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A4FE-A327-4C8E-8E3B-018FDEEE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33BF-0A40-4104-8663-08CF5DD5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C18B-DB47-4B4F-B0DB-3FB7F04A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909F-E67E-423A-B74A-9CE667CF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39DC-1460-4B21-888D-1F4FF08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9B9-7DF9-406E-9749-DC3435CD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C18D-516E-4493-B451-E3323A4E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2130-2260-4E0A-9E3D-5BAC4F0A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0F66-C67B-454B-8179-D6B44999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69F2-EA68-431C-8D37-7C370A23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F860-8053-4AC1-87F3-7345AC12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EA3-810C-48E0-A1EB-ED409B52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75C-70CF-49C3-8A30-B9A21EA1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B11-80C1-4B0A-A702-BBC86C8F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21D-6FFA-4DE7-A22B-F4E6414D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25C-A00E-486E-B797-E1549E2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E58-BCF9-4D3A-A1F1-9C1B658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4E3-EC40-4D08-B8F2-525529A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D7F3-5E7A-49AF-A36B-12B5878AA7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47EB-2742-4B64-B9D0-643259882B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 Black"/>
              </a:rPr>
              <a:t>INVESTIGATIONS IN THE SCHOOL YARD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sentation on behalf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MOBERG &amp;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Thrilla in Manil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Privacy Concerns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Educational Rights &amp; Privac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Protect Student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Disclosur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orney/Client Privi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Privac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Black"/>
              </a:rPr>
              <a:t>What should you do after the investigation?</a:t>
            </a:r>
            <a:endParaRPr b="0" lang="en-US" sz="32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bstan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ppropriat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ppropriat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losure to prospective emplo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back to Vic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QUESTIONS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WHO ARE YOU INVESTIGATING?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9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’s A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chool 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s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2666880"/>
            <a:ext cx="3371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What are you looking for?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– E-mails, text messages, phone calls, Internet social networks, personal cards and messages, no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Wit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chool Wit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, Patrons,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00800" y="4479840"/>
            <a:ext cx="23749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What is the nature of the complaint?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l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d inva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d suspicious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ors and/or anonymou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Arial Black"/>
              </a:rPr>
              <a:t>Educator Misconduct Legal Reporting Duties</a:t>
            </a:r>
            <a:endParaRPr b="0" lang="en-US" sz="32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W 26.44.030 (To CPS/Law Enforc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W 28A.400.317 (To Princi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W 28A.320.160 (Report to Par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y to Notify th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C 181-87-110 (To OS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Policy (Best Prac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OSPI Reportable Offenses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C Chapter 181-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/Drug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representation of 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egard of profession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andonment of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ishing alcohol or drugs to min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al misconduct with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Duty to Report to OSPI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C 181-86-1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intendent believes that s/he has sufficient reliabl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a certified employee within the District is not of good moral charac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not personally f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has committed an act of unprofessional condu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Superintendent must within a reasonable period of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written complaint to OS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Investigation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ly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roughly Investigate all alle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immediate and appropriate correctiv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4545000"/>
            <a:ext cx="3151080" cy="210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WHO SHOULD INVESTIGATE?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Invest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ducational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e/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20:47:10Z</dcterms:created>
  <dc:creator/>
  <dc:description/>
  <dc:language>en-US</dc:language>
  <cp:lastModifiedBy/>
  <dcterms:modified xsi:type="dcterms:W3CDTF">2010-03-24T19:20:33Z</dcterms:modified>
  <cp:revision>50</cp:revision>
  <dc:subject/>
  <dc:title> </dc:title>
</cp:coreProperties>
</file>